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F58-A910-4977-B3EC-03318CAC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11F-5AEA-4741-9625-A3D4E749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710-4A6D-407E-AD4A-CA896789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495-9B32-443C-8486-FE713C98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09C2-CAC1-4E2C-92E9-0F22E041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584F-1A87-409C-9A53-B5414D71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688F-CA61-441E-B570-46A1CE74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48DC-24B2-4145-A61E-378BF775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C774-D43C-40E5-8ABC-09280AEC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5E7B-C80A-4A98-A281-3A2DBDEA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FEE2-1488-4996-8E0B-A6C1B9DC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469-3BD3-437C-B1C0-3E2349A3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A99A-B6C0-4B0A-946D-F835AF0C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25BE-CC68-41D4-8534-D2CF56EA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0360-951B-4CE8-9031-6A18CB58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9E91-0C91-406A-B832-908E7556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8E8E-530E-42F3-A613-9027B5C0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EA4-41B5-483B-9B87-76D01B23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EDA-CB67-44F3-9C2F-C6089C25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819-ECD7-4419-A760-110701CE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294-4F17-4ECC-B75E-8CC2D11E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F32-7C3A-4C05-BC65-8604632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E38-96A5-4242-A085-B33F3547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68E-E4FF-4A3B-AAF6-1119143D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e7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835e"/>
                  </a:gs>
                  <a:gs pos="100000">
                    <a:srgbClr val="a77f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c7756"/>
                  </a:gs>
                  <a:gs pos="50000">
                    <a:srgbClr val="ac835e"/>
                  </a:gs>
                  <a:gs pos="100000">
                    <a:srgbClr val="9c775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D977-4420-4C5E-8A57-09C4ACB697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e7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835e"/>
                  </a:gs>
                  <a:gs pos="100000">
                    <a:srgbClr val="a77f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c7756"/>
                  </a:gs>
                  <a:gs pos="50000">
                    <a:srgbClr val="ac835e"/>
                  </a:gs>
                  <a:gs pos="100000">
                    <a:srgbClr val="9c775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8367-4837-45DE-8A9B-68A3962060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Me llamo _________ Clase 6 NH</a:t>
            </a:r>
            <a:br>
              <a:rPr sz="4000"/>
            </a:b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La fecha es el 10 de junio del 201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</a:rPr>
              <a:t>Propósito # 71:</a:t>
            </a:r>
            <a:r>
              <a:rPr b="0" lang="es-ES_tradnl" sz="32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 qué hora haces tu tare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  <a:ea typeface="Tahoma"/>
              </a:rPr>
              <a:t>Actividad Inicial:</a:t>
            </a:r>
            <a:r>
              <a:rPr b="0" lang="es-ES_tradnl" sz="3200" spc="-1" strike="noStrike">
                <a:solidFill>
                  <a:srgbClr val="ff505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Identif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2"/>
          <a:stretch/>
        </p:blipFill>
        <p:spPr>
          <a:xfrm>
            <a:off x="7467480" y="2819520"/>
            <a:ext cx="1333800" cy="1157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1527120" cy="1533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"/>
          <p:cNvPicPr/>
          <p:nvPr/>
        </p:nvPicPr>
        <p:blipFill>
          <a:blip r:embed="rId4"/>
          <a:stretch/>
        </p:blipFill>
        <p:spPr>
          <a:xfrm>
            <a:off x="299880" y="4724280"/>
            <a:ext cx="1148040" cy="129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"/>
          <p:cNvPicPr/>
          <p:nvPr/>
        </p:nvPicPr>
        <p:blipFill>
          <a:blip r:embed="rId5"/>
          <a:stretch/>
        </p:blipFill>
        <p:spPr>
          <a:xfrm>
            <a:off x="3962520" y="2743200"/>
            <a:ext cx="107928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1" descr=""/>
          <p:cNvPicPr/>
          <p:nvPr/>
        </p:nvPicPr>
        <p:blipFill>
          <a:blip r:embed="rId6"/>
          <a:stretch/>
        </p:blipFill>
        <p:spPr>
          <a:xfrm>
            <a:off x="7391520" y="45720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"/>
          <p:cNvPicPr/>
          <p:nvPr/>
        </p:nvPicPr>
        <p:blipFill>
          <a:blip r:embed="rId7"/>
          <a:stretch/>
        </p:blipFill>
        <p:spPr>
          <a:xfrm>
            <a:off x="228600" y="30481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4" descr=""/>
          <p:cNvPicPr/>
          <p:nvPr/>
        </p:nvPicPr>
        <p:blipFill>
          <a:blip r:embed="rId8"/>
          <a:stretch/>
        </p:blipFill>
        <p:spPr>
          <a:xfrm>
            <a:off x="5715000" y="297180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5" descr=""/>
          <p:cNvPicPr/>
          <p:nvPr/>
        </p:nvPicPr>
        <p:blipFill>
          <a:blip r:embed="rId9"/>
          <a:stretch/>
        </p:blipFill>
        <p:spPr>
          <a:xfrm>
            <a:off x="3733920" y="5029200"/>
            <a:ext cx="1276200" cy="995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6" descr=""/>
          <p:cNvPicPr/>
          <p:nvPr/>
        </p:nvPicPr>
        <p:blipFill>
          <a:blip r:embed="rId10"/>
          <a:stretch/>
        </p:blipFill>
        <p:spPr>
          <a:xfrm>
            <a:off x="2209680" y="3048120"/>
            <a:ext cx="12780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320" y="3240"/>
            <a:ext cx="91440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acer, poner, traer y salir en el presente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Telling what people d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2819520"/>
          <a:ext cx="9144000" cy="365760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676520"/>
                <a:gridCol w="1523880"/>
                <a:gridCol w="144792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Ha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Po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Tra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ot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Text Box 53"/>
          <p:cNvSpPr/>
          <p:nvPr/>
        </p:nvSpPr>
        <p:spPr>
          <a:xfrm>
            <a:off x="76320" y="914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verbs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hacer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do, to mak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pon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put, to pla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tra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bring),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salir</a:t>
            </a:r>
            <a:r>
              <a:rPr b="0" i="1" lang="en-US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leav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ave an irregular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Y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form. They are known as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“-Go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verbs because the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Y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form has a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“g”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ll other forms are regu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54"/>
          <p:cNvSpPr/>
          <p:nvPr/>
        </p:nvSpPr>
        <p:spPr>
          <a:xfrm>
            <a:off x="3069000" y="335268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55"/>
          <p:cNvSpPr/>
          <p:nvPr/>
        </p:nvSpPr>
        <p:spPr>
          <a:xfrm>
            <a:off x="3093480" y="388620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149280" y="435780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57"/>
          <p:cNvSpPr/>
          <p:nvPr/>
        </p:nvSpPr>
        <p:spPr>
          <a:xfrm>
            <a:off x="2783160" y="487692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m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58"/>
          <p:cNvSpPr/>
          <p:nvPr/>
        </p:nvSpPr>
        <p:spPr>
          <a:xfrm>
            <a:off x="3037680" y="54100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Verdana"/>
              </a:rPr>
              <a:t>hacé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59"/>
          <p:cNvSpPr/>
          <p:nvPr/>
        </p:nvSpPr>
        <p:spPr>
          <a:xfrm>
            <a:off x="3076200" y="5943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60"/>
          <p:cNvSpPr/>
          <p:nvPr/>
        </p:nvSpPr>
        <p:spPr>
          <a:xfrm>
            <a:off x="4664520" y="33526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61"/>
          <p:cNvSpPr/>
          <p:nvPr/>
        </p:nvSpPr>
        <p:spPr>
          <a:xfrm>
            <a:off x="4744800" y="382428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62"/>
          <p:cNvSpPr/>
          <p:nvPr/>
        </p:nvSpPr>
        <p:spPr>
          <a:xfrm>
            <a:off x="4737600" y="434340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63"/>
          <p:cNvSpPr/>
          <p:nvPr/>
        </p:nvSpPr>
        <p:spPr>
          <a:xfrm>
            <a:off x="4447800" y="487692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m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64"/>
          <p:cNvSpPr/>
          <p:nvPr/>
        </p:nvSpPr>
        <p:spPr>
          <a:xfrm>
            <a:off x="4665960" y="541008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Verdana"/>
              </a:rPr>
              <a:t>poné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65"/>
          <p:cNvSpPr/>
          <p:nvPr/>
        </p:nvSpPr>
        <p:spPr>
          <a:xfrm>
            <a:off x="4648320" y="5943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66"/>
          <p:cNvSpPr/>
          <p:nvPr/>
        </p:nvSpPr>
        <p:spPr>
          <a:xfrm>
            <a:off x="6278040" y="33670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i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6335280" y="380988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424560" y="43434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134400" y="487692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m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6317280" y="541008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é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6351120" y="594360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7800840" y="335268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7804800" y="382428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74"/>
          <p:cNvSpPr/>
          <p:nvPr/>
        </p:nvSpPr>
        <p:spPr>
          <a:xfrm>
            <a:off x="7873560" y="4357800"/>
            <a:ext cx="8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75"/>
          <p:cNvSpPr/>
          <p:nvPr/>
        </p:nvSpPr>
        <p:spPr>
          <a:xfrm>
            <a:off x="7683840" y="487692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im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76"/>
          <p:cNvSpPr/>
          <p:nvPr/>
        </p:nvSpPr>
        <p:spPr>
          <a:xfrm>
            <a:off x="7981200" y="541008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í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77"/>
          <p:cNvSpPr/>
          <p:nvPr/>
        </p:nvSpPr>
        <p:spPr>
          <a:xfrm>
            <a:off x="7876440" y="594360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2. Remember, that the verb</a:t>
            </a:r>
            <a:r>
              <a:rPr b="0" lang="en-US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tener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has a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“g”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in the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YO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orm.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Tener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is also a BOOT-verb. The verb </a:t>
            </a: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Venir</a:t>
            </a:r>
            <a:r>
              <a:rPr b="0" lang="en-US" sz="24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(to come)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ollows the same pattern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1680" y="1600200"/>
          <a:ext cx="8540640" cy="453708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Ten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Ven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los ellas U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Text Box 37"/>
          <p:cNvSpPr/>
          <p:nvPr/>
        </p:nvSpPr>
        <p:spPr>
          <a:xfrm>
            <a:off x="3843360" y="2316240"/>
            <a:ext cx="14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en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38"/>
          <p:cNvSpPr/>
          <p:nvPr/>
        </p:nvSpPr>
        <p:spPr>
          <a:xfrm>
            <a:off x="3877560" y="2925720"/>
            <a:ext cx="14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39"/>
          <p:cNvSpPr/>
          <p:nvPr/>
        </p:nvSpPr>
        <p:spPr>
          <a:xfrm>
            <a:off x="3842640" y="36115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40"/>
          <p:cNvSpPr/>
          <p:nvPr/>
        </p:nvSpPr>
        <p:spPr>
          <a:xfrm>
            <a:off x="3702240" y="41911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enem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41"/>
          <p:cNvSpPr/>
          <p:nvPr/>
        </p:nvSpPr>
        <p:spPr>
          <a:xfrm>
            <a:off x="3971880" y="487692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tené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921840" y="548640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6514560" y="228600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en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6546240" y="289548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45"/>
          <p:cNvSpPr/>
          <p:nvPr/>
        </p:nvSpPr>
        <p:spPr>
          <a:xfrm>
            <a:off x="6645960" y="36115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46"/>
          <p:cNvSpPr/>
          <p:nvPr/>
        </p:nvSpPr>
        <p:spPr>
          <a:xfrm>
            <a:off x="6393960" y="422100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enim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47"/>
          <p:cNvSpPr/>
          <p:nvPr/>
        </p:nvSpPr>
        <p:spPr>
          <a:xfrm>
            <a:off x="6756480" y="490680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vení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48"/>
          <p:cNvSpPr/>
          <p:nvPr/>
        </p:nvSpPr>
        <p:spPr>
          <a:xfrm>
            <a:off x="6590520" y="5516640"/>
            <a:ext cx="14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ieta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8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jercicio 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8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jercicio 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8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p. 37-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7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01:17:26Z</dcterms:created>
  <dc:creator>Helen Zumaeta</dc:creator>
  <dc:description/>
  <dc:language>en-US</dc:language>
  <cp:lastModifiedBy>Helen Zumaeta</cp:lastModifiedBy>
  <dcterms:modified xsi:type="dcterms:W3CDTF">2013-06-06T17:47:28Z</dcterms:modified>
  <cp:revision>11</cp:revision>
  <dc:subject/>
  <dc:title>Me llamo _________ Clase 7 IM La fecha es el 14 de octubre del 2011</dc:title>
</cp:coreProperties>
</file>